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DCE-2E09-4F8F-805B-E7DB1F6E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50E-63A9-439F-A04B-66BF2B50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31E-D177-4A80-917B-F9D473AC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7CF-4A40-4FA8-8917-567D1541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5133-7623-4238-B73D-A1975C75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B67B-BF18-4D12-A87C-6377878D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DCD0-7929-4CA8-B783-52AC633A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8C12-EBEC-4299-BCAA-C50CB174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1421-486C-4E80-8C71-357293FB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651C-CC63-4F41-997A-DC886BE9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EC4A-EC0B-44F6-8DD6-2B08021A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A4D-9FF0-44B9-83ED-1C59A1B2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78E8-1378-4919-ABC6-AB873118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38D8-7272-4295-968F-BBF82A8D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A0C9-4B5B-4AB0-B69A-6E3C95AE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B743-C068-41D9-A8B5-B3D72A8B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CC08-0350-41CC-811A-7393DF36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0E1AC-3883-413E-87E9-12F6FE0E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04B9A-63DD-42E7-9E37-11278DA6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ED163-25B7-49CE-968C-C2B50554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10CA2-BFC0-443F-864F-1D0BF331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6A381-5D3C-43A6-9ACB-780657CA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57F-D72F-4A65-8564-54538365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C79D2-1799-472A-8F18-843AAAE1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6FB3D-2922-4C49-8DB5-C1D81EFB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A3941-7963-4542-826D-A470DB58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8CB4A-0CED-40C5-9B21-6D99C318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3248-1DD7-431F-8DD7-A184EF08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F42A2-C88D-44C4-A458-EC4FBB56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8FEB0-1CC8-401E-8046-6A86AB3B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F8D5C-2D89-4362-95FB-E2CD4FC8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3753D-C21A-4C43-87E3-B9A53522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CB724-23DC-42C1-8062-5B0130BF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4D4-0517-4D30-8532-2411ACD1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25E01-DEB8-4120-9DEB-6BCABA2C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83485-B57F-4970-A504-35DC2609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5F8E3-2560-46E1-B9EC-626B1790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AFF29-2129-45E0-BCDB-1A3C8702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71194-21A9-4F30-8543-C1BC7F27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E7F36-7B17-414F-B76E-1BD35194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AA335-09F3-46BC-9B6D-085851C2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1FAD9-B3B9-4E7A-ABCE-CAC9BFAF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DAC52-2DD1-4508-AF8C-B2E5097E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D0AD6-D340-4C04-9EF3-68982914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A70-845C-4788-AEF9-5D81F186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7901D-7776-41EC-9D67-A01DAF54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CFE31-BBF2-4244-8B02-7A79BAF0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44E65-BD77-466A-A6E9-D9063119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C8E5A-3590-4942-8DDB-62B6116B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808E9-E068-4D52-BD07-12FBC950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3E502-B46F-4AF2-BA4F-B61B1E7F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73C04-0F14-48E6-90A0-9683D7F0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24BFB-4A9B-4992-BFE8-29795479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63F76-D87F-4651-BFC9-6CA3B5B3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0B6FA-7CB2-45E1-8E38-924D0833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B92-572E-482D-9A9E-AD584AF4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8BAEE-2549-4F4F-9432-2DC3F1D4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E1E68-2C72-4B84-89AC-B5807648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E2B39-B6F2-45B6-88B7-A425EB30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3E1AA-FAB7-4C3B-BD17-ABBD5BE5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18407-959F-4A95-8FFB-571A1629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05F91-61B2-494B-A0D2-C3568406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E40B2-916F-410F-BBC0-ED181402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6B533-1780-400B-9C10-E3CC20E6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BEF70-15C9-4875-B5B0-F8BD6170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77231-0B63-43B5-8473-0C106842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F88-26AC-4D05-85E3-E1A91A6F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95408-DA8E-4E92-8EA2-169DD5FF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BDFB9-E9F1-478A-A960-1EBA5793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738BA-365C-48BC-899A-A1A9B93D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782AF-E021-4493-9912-BF80E5B0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2311E-D85B-4021-BC72-DCB4850F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A69E4-0D6F-4D11-8A6B-DDC2C4B0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2D214-92CB-4883-8BB3-9DA0BD0E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C7665-F0CA-4855-96E0-2805E038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25930-4554-476C-97AC-218D8E4E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C5D2F-EA1B-40A6-84A6-11982E0C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717-3377-4BB4-BE2A-E29476FC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DA2E0-ED02-4FFF-8AE5-717D170F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4087A-9718-4AFC-B8DE-A5D8E7B7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8C956-455E-4F76-86EF-5A726134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5BB3C-8230-46FD-90E7-B6925589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02C65-85BF-4172-9848-4AC7A171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A26-87E1-466B-9FD9-00DBF42A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4528-F467-41AA-90A3-437EF7C12354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B294-B1CA-4291-A4F5-51EDADDC14D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5B89-9F57-4A5B-9C9F-F953904E21D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BBA4-DF4F-4A7A-B407-934C4CD1F3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2632-650B-456F-8283-774CE1B9447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F5A9-4AE5-476D-AA72-9A98165D6F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BEF7-E006-4B2D-A95D-4003B6E4169A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2AA5-CF6F-4FA7-9B10-E397D4DBB7A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1B8A-6F1D-4FF9-A6E6-724D32F0A83C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CE0C-68D8-499C-B6C2-D430D18860E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8E83-980B-469A-867B-AF5E15525A23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0CA2-BA65-4B7F-9E16-AEBF468C3BD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0558-7BF8-4B64-A293-8EB7C45FD422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7359-5263-4850-8B19-2EB7662C73F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774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D:\C21 PowerPoint\Multi_Journal\art for blue\Ch10\Ch10-02a.jpg"/>
          <p:cNvPicPr/>
          <p:nvPr/>
        </p:nvPicPr>
        <p:blipFill>
          <a:blip r:embed="rId2"/>
          <a:stretch/>
        </p:blipFill>
        <p:spPr>
          <a:xfrm>
            <a:off x="457200" y="1623960"/>
            <a:ext cx="6553080" cy="3309840"/>
          </a:xfrm>
          <a:prstGeom prst="rect">
            <a:avLst/>
          </a:prstGeom>
          <a:ln w="0">
            <a:noFill/>
          </a:ln>
        </p:spPr>
      </p:pic>
      <p:sp>
        <p:nvSpPr>
          <p:cNvPr id="305" name="Oval 6"/>
          <p:cNvSpPr/>
          <p:nvPr/>
        </p:nvSpPr>
        <p:spPr>
          <a:xfrm>
            <a:off x="4952880" y="1523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6172200" y="4572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8"/>
          <p:cNvSpPr/>
          <p:nvPr/>
        </p:nvSpPr>
        <p:spPr>
          <a:xfrm>
            <a:off x="7010280" y="25146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9"/>
          <p:cNvSpPr/>
          <p:nvPr/>
        </p:nvSpPr>
        <p:spPr>
          <a:xfrm>
            <a:off x="7086600" y="36576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514440" y="5767560"/>
            <a:ext cx="68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s of person who checked invo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514440" y="5029200"/>
            <a:ext cx="73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Stamp date received and purchase invoice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514440" y="613080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vendor’s terms of s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514440" y="5394240"/>
            <a:ext cx="73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a check mark by each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0-2, page 2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12"/>
          <p:cNvSpPr/>
          <p:nvPr/>
        </p:nvSpPr>
        <p:spPr>
          <a:xfrm>
            <a:off x="559080" y="914400"/>
            <a:ext cx="66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25d"/>
                </a:solidFill>
                <a:latin typeface="Times New Roman"/>
              </a:rPr>
              <a:t>Source document that records a purchase on acc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168b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2. Purchased merchandise on account from Crown Ltd., $2,039.99. Purchase Invoice No. 8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52280" y="175248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52280" y="5373720"/>
            <a:ext cx="6553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s in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ies increase on the cred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152280" y="422928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s are in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ies are increa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52280" y="2876400"/>
            <a:ext cx="5257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cos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liability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5563080" y="2057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7163280" y="407844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6036480" y="284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0"/>
          <p:cNvSpPr/>
          <p:nvPr/>
        </p:nvSpPr>
        <p:spPr>
          <a:xfrm>
            <a:off x="5724000" y="2590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039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1"/>
          <p:cNvSpPr/>
          <p:nvPr/>
        </p:nvSpPr>
        <p:spPr>
          <a:xfrm>
            <a:off x="7679880" y="4878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7400160" y="462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039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0-2, page 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35"/>
          <p:cNvGrpSpPr/>
          <p:nvPr/>
        </p:nvGrpSpPr>
        <p:grpSpPr>
          <a:xfrm>
            <a:off x="5638680" y="1523880"/>
            <a:ext cx="2971800" cy="3881520"/>
            <a:chOff x="5638680" y="1523880"/>
            <a:chExt cx="2971800" cy="3881520"/>
          </a:xfrm>
        </p:grpSpPr>
        <p:grpSp>
          <p:nvGrpSpPr>
            <p:cNvPr id="329" name="Group 34"/>
            <p:cNvGrpSpPr/>
            <p:nvPr/>
          </p:nvGrpSpPr>
          <p:grpSpPr>
            <a:xfrm>
              <a:off x="5638680" y="3581280"/>
              <a:ext cx="2971800" cy="1824120"/>
              <a:chOff x="5638680" y="3581280"/>
              <a:chExt cx="2971800" cy="1824120"/>
            </a:xfrm>
          </p:grpSpPr>
          <p:sp>
            <p:nvSpPr>
              <p:cNvPr id="330" name="Text Box 26"/>
              <p:cNvSpPr/>
              <p:nvPr/>
            </p:nvSpPr>
            <p:spPr>
              <a:xfrm>
                <a:off x="6081480" y="3581280"/>
                <a:ext cx="200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ounts Payab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27"/>
              <p:cNvSpPr/>
              <p:nvPr/>
            </p:nvSpPr>
            <p:spPr>
              <a:xfrm>
                <a:off x="5638680" y="39625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28"/>
              <p:cNvSpPr/>
              <p:nvPr/>
            </p:nvSpPr>
            <p:spPr>
              <a:xfrm>
                <a:off x="708660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33"/>
            <p:cNvGrpSpPr/>
            <p:nvPr/>
          </p:nvGrpSpPr>
          <p:grpSpPr>
            <a:xfrm>
              <a:off x="5638680" y="1523880"/>
              <a:ext cx="2971800" cy="1828800"/>
              <a:chOff x="5638680" y="1523880"/>
              <a:chExt cx="2971800" cy="1828800"/>
            </a:xfrm>
          </p:grpSpPr>
          <p:sp>
            <p:nvSpPr>
              <p:cNvPr id="334" name="Text Box 30"/>
              <p:cNvSpPr/>
              <p:nvPr/>
            </p:nvSpPr>
            <p:spPr>
              <a:xfrm>
                <a:off x="6435000" y="1523880"/>
                <a:ext cx="125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urchas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31"/>
              <p:cNvSpPr/>
              <p:nvPr/>
            </p:nvSpPr>
            <p:spPr>
              <a:xfrm>
                <a:off x="5638680" y="190512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32"/>
              <p:cNvSpPr/>
              <p:nvPr/>
            </p:nvSpPr>
            <p:spPr>
              <a:xfrm>
                <a:off x="7086600" y="190980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774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D:\C21 PowerPoint\Multi_Journal\art for blue\Ch10\Ch10-02b.jpg"/>
          <p:cNvPicPr/>
          <p:nvPr/>
        </p:nvPicPr>
        <p:blipFill>
          <a:blip r:embed="rId2"/>
          <a:srcRect l="0" t="23241" r="0" b="0"/>
          <a:stretch/>
        </p:blipFill>
        <p:spPr>
          <a:xfrm>
            <a:off x="404640" y="1090440"/>
            <a:ext cx="8126640" cy="1473480"/>
          </a:xfrm>
          <a:prstGeom prst="rect">
            <a:avLst/>
          </a:prstGeom>
          <a:ln w="0">
            <a:noFill/>
          </a:ln>
        </p:spPr>
      </p:pic>
      <p:sp>
        <p:nvSpPr>
          <p:cNvPr id="339" name="Oval 5"/>
          <p:cNvSpPr/>
          <p:nvPr/>
        </p:nvSpPr>
        <p:spPr>
          <a:xfrm>
            <a:off x="8381880" y="224784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3809880" y="224784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8"/>
          <p:cNvSpPr/>
          <p:nvPr/>
        </p:nvSpPr>
        <p:spPr>
          <a:xfrm>
            <a:off x="6095880" y="224784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9"/>
          <p:cNvSpPr/>
          <p:nvPr/>
        </p:nvSpPr>
        <p:spPr>
          <a:xfrm>
            <a:off x="1295280" y="16765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09520" y="4091040"/>
            <a:ext cx="77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purchase invoice number in the Doc. No.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20952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209520" y="445464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209520" y="3718080"/>
            <a:ext cx="85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vendor name 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209520" y="481644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0-2, page 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0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D:\C21 PowerPoint\Multi_Journal\art for blue\Ch10\Ch10-02c.jpg"/>
          <p:cNvPicPr/>
          <p:nvPr/>
        </p:nvPicPr>
        <p:blipFill>
          <a:blip r:embed="rId2"/>
          <a:srcRect l="0" t="18466" r="1412" b="0"/>
          <a:stretch/>
        </p:blipFill>
        <p:spPr>
          <a:xfrm>
            <a:off x="420840" y="1139760"/>
            <a:ext cx="8318520" cy="17352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5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0-2, page 2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6"/>
          <p:cNvSpPr/>
          <p:nvPr/>
        </p:nvSpPr>
        <p:spPr>
          <a:xfrm>
            <a:off x="7620120" y="224784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7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8"/>
          <p:cNvSpPr/>
          <p:nvPr/>
        </p:nvSpPr>
        <p:spPr>
          <a:xfrm>
            <a:off x="3505320" y="224784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9"/>
          <p:cNvSpPr/>
          <p:nvPr/>
        </p:nvSpPr>
        <p:spPr>
          <a:xfrm>
            <a:off x="5715000" y="224784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1295280" y="1600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514440" y="4091040"/>
            <a:ext cx="77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heck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514440" y="33526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514440" y="445464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9"/>
          <p:cNvSpPr/>
          <p:nvPr/>
        </p:nvSpPr>
        <p:spPr>
          <a:xfrm>
            <a:off x="514440" y="3718080"/>
            <a:ext cx="69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0"/>
          <p:cNvSpPr/>
          <p:nvPr/>
        </p:nvSpPr>
        <p:spPr>
          <a:xfrm>
            <a:off x="514440" y="481644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34"/>
          <p:cNvGrpSpPr/>
          <p:nvPr/>
        </p:nvGrpSpPr>
        <p:grpSpPr>
          <a:xfrm>
            <a:off x="457200" y="914400"/>
            <a:ext cx="8229600" cy="3962160"/>
            <a:chOff x="457200" y="914400"/>
            <a:chExt cx="8229600" cy="3962160"/>
          </a:xfrm>
        </p:grpSpPr>
        <p:pic>
          <p:nvPicPr>
            <p:cNvPr id="364" name="Picture 4" descr="D:\C21 PowerPoint\Multi_Journal\art for blue\Ch10\Ch10-02e.jpg"/>
            <p:cNvPicPr/>
            <p:nvPr/>
          </p:nvPicPr>
          <p:blipFill>
            <a:blip r:embed="rId1"/>
            <a:srcRect l="0" t="0" r="1412" b="2231"/>
            <a:stretch/>
          </p:blipFill>
          <p:spPr>
            <a:xfrm>
              <a:off x="457200" y="914400"/>
              <a:ext cx="8229600" cy="15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5" name="Group 26"/>
            <p:cNvGrpSpPr/>
            <p:nvPr/>
          </p:nvGrpSpPr>
          <p:grpSpPr>
            <a:xfrm>
              <a:off x="3048120" y="2362320"/>
              <a:ext cx="5638320" cy="2514240"/>
              <a:chOff x="3048120" y="2362320"/>
              <a:chExt cx="5638320" cy="2514240"/>
            </a:xfrm>
          </p:grpSpPr>
          <p:pic>
            <p:nvPicPr>
              <p:cNvPr id="366" name="Picture 16" descr="D:\C21 PowerPoint\Multi_Journal\art for blue\Ch10\Ch10-02d.jpg"/>
              <p:cNvPicPr/>
              <p:nvPr/>
            </p:nvPicPr>
            <p:blipFill>
              <a:blip r:embed="rId2"/>
              <a:srcRect l="0" t="0" r="0" b="45666"/>
              <a:stretch/>
            </p:blipFill>
            <p:spPr>
              <a:xfrm>
                <a:off x="3065400" y="2362320"/>
                <a:ext cx="5613480" cy="2438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7" name="Group 24"/>
              <p:cNvGrpSpPr/>
              <p:nvPr/>
            </p:nvGrpSpPr>
            <p:grpSpPr>
              <a:xfrm>
                <a:off x="3048120" y="4648320"/>
                <a:ext cx="5638320" cy="228240"/>
                <a:chOff x="3048120" y="4648320"/>
                <a:chExt cx="5638320" cy="228240"/>
              </a:xfrm>
            </p:grpSpPr>
            <p:sp>
              <p:nvSpPr>
                <p:cNvPr id="368" name="Freeform 21"/>
                <p:cNvSpPr/>
                <p:nvPr/>
              </p:nvSpPr>
              <p:spPr>
                <a:xfrm>
                  <a:off x="3076920" y="4648320"/>
                  <a:ext cx="5609520" cy="189000"/>
                </a:xfrm>
                <a:prstGeom prst="pie">
                  <a:avLst/>
                </a:prstGeom>
                <a:solidFill>
                  <a:srgbClr val="d4d4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Freeform 22"/>
                <p:cNvSpPr/>
                <p:nvPr/>
              </p:nvSpPr>
              <p:spPr>
                <a:xfrm>
                  <a:off x="3048120" y="4710960"/>
                  <a:ext cx="5638320" cy="165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70" name="Text Box 30"/>
          <p:cNvSpPr/>
          <p:nvPr/>
        </p:nvSpPr>
        <p:spPr>
          <a:xfrm>
            <a:off x="228600" y="32446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tit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3"/>
          <a:stretch/>
        </p:blipFill>
        <p:spPr>
          <a:xfrm>
            <a:off x="450720" y="146160"/>
            <a:ext cx="8242560" cy="774720"/>
          </a:xfrm>
          <a:prstGeom prst="rect">
            <a:avLst/>
          </a:prstGeom>
          <a:ln w="0">
            <a:noFill/>
          </a:ln>
        </p:spPr>
      </p:pic>
      <p:sp>
        <p:nvSpPr>
          <p:cNvPr id="372" name="Oval 5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6"/>
          <p:cNvSpPr/>
          <p:nvPr/>
        </p:nvSpPr>
        <p:spPr>
          <a:xfrm>
            <a:off x="380880" y="16765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7"/>
          <p:cNvSpPr/>
          <p:nvPr/>
        </p:nvSpPr>
        <p:spPr>
          <a:xfrm>
            <a:off x="3581280" y="1600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8"/>
          <p:cNvSpPr/>
          <p:nvPr/>
        </p:nvSpPr>
        <p:spPr>
          <a:xfrm>
            <a:off x="5791320" y="17524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9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7"/>
          <p:cNvSpPr/>
          <p:nvPr/>
        </p:nvSpPr>
        <p:spPr>
          <a:xfrm>
            <a:off x="228600" y="390384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memorandum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8"/>
          <p:cNvSpPr/>
          <p:nvPr/>
        </p:nvSpPr>
        <p:spPr>
          <a:xfrm>
            <a:off x="228600" y="2879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9"/>
          <p:cNvSpPr/>
          <p:nvPr/>
        </p:nvSpPr>
        <p:spPr>
          <a:xfrm>
            <a:off x="228600" y="487836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228600" y="523872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vendor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2"/>
          <p:cNvSpPr/>
          <p:nvPr/>
        </p:nvSpPr>
        <p:spPr>
          <a:xfrm>
            <a:off x="228600" y="559764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33"/>
          <p:cNvSpPr/>
          <p:nvPr/>
        </p:nvSpPr>
        <p:spPr>
          <a:xfrm>
            <a:off x="8381880" y="1600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0-2, page 2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dcterms:modified xsi:type="dcterms:W3CDTF">2012-01-01T19:49:00Z</dcterms:modified>
  <cp:revision>17</cp:revision>
  <dc:subject/>
  <dc:title>ADJUSTING ENTRY FOR SUPPLIES</dc:title>
</cp:coreProperties>
</file>